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6A0A-2774-44BD-A022-2C30737B3C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78D2-C24A-45F6-A30D-CAFD53A3A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603-EE2F-4EFA-935D-F2D0DD26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E62-AFB7-421F-B65D-45BBA17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1B8-B989-4C23-8F0F-260D3380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04E-E3EB-4E0D-94AE-602C2C5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32E-2EE9-4C51-92DB-A69BFB25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3EE-2C6D-4381-BD4B-D22713B0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A71-D803-4D88-9E72-28BB83C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AA9-737F-47C1-ACE2-A2A5DB35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1A2-AA42-4264-8D94-31C4F04E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287-EB40-4F32-902C-D37BC19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20A-16A6-4533-BBF4-13F6A32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E23-0379-4F63-B03A-CB9B328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C62-3101-448D-BBE2-239008AB92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DFBC0352-41D9-4742-922D-E77226062B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46200" y="1486080"/>
          <a:ext cx="6008760" cy="1006200"/>
        </p:xfrm>
        <a:graphic>
          <a:graphicData uri="http://schemas.openxmlformats.org/drawingml/2006/table">
            <a:tbl>
              <a:tblPr/>
              <a:tblGrid>
                <a:gridCol w="3606840"/>
                <a:gridCol w="24019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δυνα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am able (t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ει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l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θ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I s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ἰδ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I kn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24"/>
          <p:cNvSpPr/>
          <p:nvPr/>
        </p:nvSpPr>
        <p:spPr>
          <a:xfrm>
            <a:off x="0" y="32148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tate arising from pas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erfect 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t:      Past state arising from action in further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Pluperfect e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A7FD46B3-2CA2-4C31-B8CB-ABDE614CD5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7120" y="1714680"/>
            <a:ext cx="82296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ἐξεστ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irregular and is normally followed by a dative. For example: Matt 14.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ὐκ ἐξεστ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σο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 ἐχειν αὐτη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'It is not lawfu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to have her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n translating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t is often sensible to rephrase 'it is necessary' (which one hardly ever says in English) to some form of 'must'. (N.B. there is no word in Greek for 'must'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used inste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286000" y="110484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2 Result Claus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219320" y="1714680"/>
            <a:ext cx="6705360" cy="62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500" spc="-1" strike="noStrike">
                <a:solidFill>
                  <a:srgbClr val="000000"/>
                </a:solidFill>
                <a:latin typeface="Gentium"/>
              </a:rPr>
              <a:t>ὡστ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Infinitive =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2920" y="2401920"/>
            <a:ext cx="88009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tthew 15.30-1: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και ἐθεραπευσεν αὐτους∙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ὡστε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τον ὀχλον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θαυμασαι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nd he healed them,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th the resul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the crowd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amaz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rk 15.5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ὁ δε Ἰησους οὐκετι οὐδεν ἀπεκριθη,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Gentium"/>
              </a:rPr>
              <a:t>ὡστε θαυμαζειν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Gentium"/>
              </a:rPr>
              <a:t>τον Πιλατον</a:t>
            </a:r>
            <a:r>
              <a:rPr b="0" lang="en-GB" sz="26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t Jesus answered nothing further,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th the result tha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ilate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as amaz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91293A33-D75F-40E6-9EA2-212E4F7936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057400" y="114300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3 Purpos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643040"/>
            <a:ext cx="8572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 14: 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ου ἠλθεν κυρι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οιησ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ν κατα παντ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old, the Lord is coming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exec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lit: do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ment against 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οιησεν δωδεκ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ἱνα ὠσ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μετ’ αὐτου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ἱνα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ποστελλ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αὐτου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κυρυσσ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α δαιμονι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He made (the) twel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order (for them) to b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 and so that he might send the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pr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uthorit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 cast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BDC065EF-D177-4AF7-B769-EA019C48E0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BEC594BE-5376-4A93-BDC4-C6B8656CE3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28800" y="1300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4 Articular Infinitiv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01760" y="2017800"/>
          <a:ext cx="9028080" cy="914400"/>
        </p:xfrm>
        <a:graphic>
          <a:graphicData uri="http://schemas.openxmlformats.org/drawingml/2006/table">
            <a:tbl>
              <a:tblPr/>
              <a:tblGrid>
                <a:gridCol w="2384280"/>
                <a:gridCol w="525600"/>
                <a:gridCol w="611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ju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 κρινειν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activity of/the fact of) judg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θι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 ἐσθιειν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activity of/the fact of) ea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28760" y="3286080"/>
          <a:ext cx="8196120" cy="2286000"/>
        </p:xfrm>
        <a:graphic>
          <a:graphicData uri="http://schemas.openxmlformats.org/drawingml/2006/table">
            <a:tbl>
              <a:tblPr/>
              <a:tblGrid>
                <a:gridCol w="3340080"/>
                <a:gridCol w="485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cc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 view to / aiming at / leading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/ whi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35E3AB08-3F79-4BDE-9CFC-8ECA948DB23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19040" y="1357200"/>
            <a:ext cx="81536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Jas. 4.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οὐκ ἐχετ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α το μη αἰτεισθαι ὑμ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do not h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cause you do not as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on account of the fact of you not 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tt. 26.3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μετα δε το ἐγερθηναι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προαξω ὑμας εἰς την Γαλιλαι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 I have been rai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 will go head of you into Galil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it: after the activity of me being rai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E6A8BCD4-991D-4C3E-B611-AE28BBFC92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42920" y="1332000"/>
            <a:ext cx="872496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Cor. 1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ὁ παρακαλων ἡμας ἐπι πασῃ τῃ θλιψει ἡμ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εἰς τ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δυνασθα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ἡμα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παρακαλειν τους ἐν πασῃ θλιψ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encouraging us in all our sufferin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 that we might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ble 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courage those who are in any suffering. (lit: with a view t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ctivity of us being 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l. 2.12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προ του γαρ ἐλθειν τινα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ἀπο Ἰακωβου μετα των ἐθνω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υνησθι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or before some people ca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James, he used to e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the Gentiles. (lit: before the fact of some people 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4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αι ἐγενετο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ἐν τῳ σπειρε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ὃ μεν ἐπεσεν παρα την ὁδ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s he s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me fell alongside the path. (lit: in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y of sowing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A5569026-9EE8-476A-B589-285953B51D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95280" y="1500120"/>
            <a:ext cx="655344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erson Imperatives = 'Let …'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8280" y="2822400"/>
          <a:ext cx="8929800" cy="1951200"/>
        </p:xfrm>
        <a:graphic>
          <a:graphicData uri="http://schemas.openxmlformats.org/drawingml/2006/table">
            <a:tbl>
              <a:tblPr/>
              <a:tblGrid>
                <a:gridCol w="928800"/>
                <a:gridCol w="1428840"/>
                <a:gridCol w="1571400"/>
                <a:gridCol w="1643400"/>
                <a:gridCol w="1714320"/>
                <a:gridCol w="16430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ε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α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ε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α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43080" y="1204920"/>
            <a:ext cx="8429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dings are very distinctive: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ngular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ωσα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andard distinctive features are visible: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orist Active and Middle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Aorist Pas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57120" y="3271680"/>
            <a:ext cx="835812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4.23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 τις ἐχει ὠτα ἀκουειν ἀκουετ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f someone has ears to hear, he should h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6.1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η οὐν βασιλευετω ἡ ἁμαρτια ἐν τῳ θνητ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ὑμων σωμα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refore sin should not reign in your mortal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132B4823-BDFF-4A8B-A5B4-D12908A3CA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BE1C3F76-DFCC-4FBD-9633-C4A064C4E2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760" y="1571760"/>
          <a:ext cx="8610480" cy="4114800"/>
        </p:xfrm>
        <a:graphic>
          <a:graphicData uri="http://schemas.openxmlformats.org/drawingml/2006/table">
            <a:tbl>
              <a:tblPr/>
              <a:tblGrid>
                <a:gridCol w="2162160"/>
                <a:gridCol w="1023840"/>
                <a:gridCol w="623880"/>
                <a:gridCol w="3106800"/>
                <a:gridCol w="1693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C42326EB-C887-4CC5-93DB-D71750C211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7200" y="1289160"/>
          <a:ext cx="8739360" cy="4800600"/>
        </p:xfrm>
        <a:graphic>
          <a:graphicData uri="http://schemas.openxmlformats.org/drawingml/2006/table">
            <a:tbl>
              <a:tblPr/>
              <a:tblGrid>
                <a:gridCol w="1598760"/>
                <a:gridCol w="1401840"/>
                <a:gridCol w="500040"/>
                <a:gridCol w="3357360"/>
                <a:gridCol w="1881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σα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Middle/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Μ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3CD6C325-EBF4-46C1-B218-9C3A8A4521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52280" y="1181160"/>
            <a:ext cx="548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υναμαι, καθημαι, κει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200" y="1886040"/>
          <a:ext cx="8894880" cy="4114800"/>
        </p:xfrm>
        <a:graphic>
          <a:graphicData uri="http://schemas.openxmlformats.org/drawingml/2006/table">
            <a:tbl>
              <a:tblPr/>
              <a:tblGrid>
                <a:gridCol w="1487520"/>
                <a:gridCol w="1500480"/>
                <a:gridCol w="1271520"/>
                <a:gridCol w="1612800"/>
                <a:gridCol w="1623960"/>
                <a:gridCol w="139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σθ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θη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ειμενος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F2F70EC4-BB44-499C-A544-3F9D781C41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813040"/>
          <a:ext cx="9205920" cy="3322800"/>
        </p:xfrm>
        <a:graphic>
          <a:graphicData uri="http://schemas.openxmlformats.org/drawingml/2006/table">
            <a:tbl>
              <a:tblPr/>
              <a:tblGrid>
                <a:gridCol w="1478160"/>
                <a:gridCol w="1220760"/>
                <a:gridCol w="4125960"/>
                <a:gridCol w="238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s you that, for examp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Im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λομ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Future Act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Aorist Activ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d -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ding points out that it has a 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fect Participl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Future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ληθησομεθ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57120" y="1297080"/>
          <a:ext cx="8429760" cy="115884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7960"/>
                <a:gridCol w="1403640"/>
                <a:gridCol w="1455480"/>
                <a:gridCol w="13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61F16BA9-6099-44CF-81F4-9863E56408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42920" y="1214280"/>
            <a:ext cx="97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time distinctions: future, present,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'aspects'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– the action i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defined – the action is considered in itself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reference to continuation o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d – the action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enses function differently in the different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ives – time and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les – relative time (relative to the main ve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moods – aspect on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23"/>
          <p:cNvSpPr/>
          <p:nvPr/>
        </p:nvSpPr>
        <p:spPr>
          <a:xfrm>
            <a:off x="142920" y="4387680"/>
            <a:ext cx="87868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ultaneous/sequence is very similar to process/un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dicative can be dominated by aspect, (e.g. Romans 3.23: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παντες γαρ ἡματον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but normally time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pect) is very import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ugment marks out past time – hence it occurs in the Imperfect and Aorist in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32C11CA7-4ECA-4572-B2C5-DD12F31631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0440" y="1230480"/>
          <a:ext cx="8763120" cy="3127320"/>
        </p:xfrm>
        <a:graphic>
          <a:graphicData uri="http://schemas.openxmlformats.org/drawingml/2006/table">
            <a:tbl>
              <a:tblPr/>
              <a:tblGrid>
                <a:gridCol w="1430280"/>
                <a:gridCol w="1231920"/>
                <a:gridCol w="495360"/>
                <a:gridCol w="1666800"/>
                <a:gridCol w="1994040"/>
                <a:gridCol w="19447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(or Un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AB389D96-C7CF-4FCD-A989-B630DDC1FD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52560" y="2057400"/>
          <a:ext cx="7238880" cy="3521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143"/>
          <p:cNvSpPr/>
          <p:nvPr/>
        </p:nvSpPr>
        <p:spPr>
          <a:xfrm>
            <a:off x="762120" y="137160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ἰδ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F03F29F6-FE46-404C-9EE4-EDA2811520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4120" y="1531800"/>
            <a:ext cx="8358120" cy="1917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of the forms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ἰδα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easily confused with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 see).  Remember that augments are lost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7240" y="3840120"/>
          <a:ext cx="7715520" cy="1874880"/>
        </p:xfrm>
        <a:graphic>
          <a:graphicData uri="http://schemas.openxmlformats.org/drawingml/2006/table">
            <a:tbl>
              <a:tblPr/>
              <a:tblGrid>
                <a:gridCol w="2598840"/>
                <a:gridCol w="1758960"/>
                <a:gridCol w="1643040"/>
                <a:gridCol w="1714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 –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ἰδ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ᾐ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8B508814-0362-47FA-97F0-D03AF61C30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4200" y="1474920"/>
            <a:ext cx="89298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s. 2.1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υνα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ἡ πιστις σωσαι αὐ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ave him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2.3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εν ὁ κυριος τῳ κυριῳ μου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θου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κ δεξιων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ord said to my lord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t my right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28.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 ἐστιν ὡδε, ἠγερθη γαρ καθως εἰπεν∙ δευ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δετε τον τοπον ὁπου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κει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is not here, for he has been raised just as he sai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see the place whe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l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2920" y="1177920"/>
            <a:ext cx="877248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v. 4.2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εὐθεως ἐγενομην ἐν πνευματι, και ἰδου θρονος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ἐκειτο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ἐν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τῳ οὐρανῳ, και ἐπι τον θρονον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καθημενο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mmediately I was in the spirit, and behold a thron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ly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in heaven, and one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sitt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on the thro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3 John 12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και ἡμεις δε μαρτυρουμεν, και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οἰδα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ὁτι ἡ μαρτυρια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ἡμων ἀληθης ἐστι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e also testify, and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you know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our testimony is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r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 Cor. 4.14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εἰδοτε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ὁτι ὁ ἐγειρας τνο κυριον Ἰησουν και ἡμας συν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Ἰησου ἐγερεῖ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Knowin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that the one who raised the Lord Jesus wil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ise us also with Jes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3B4B7412-C2E5-4BB7-9BE4-7AC3142838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7B2AEA73-37B9-44E7-9AE6-D8A292193F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371600" y="164304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8.2.1  After certain verb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5680" y="2849400"/>
          <a:ext cx="9001080" cy="1508400"/>
        </p:xfrm>
        <a:graphic>
          <a:graphicData uri="http://schemas.openxmlformats.org/drawingml/2006/table">
            <a:tbl>
              <a:tblPr/>
              <a:tblGrid>
                <a:gridCol w="1379520"/>
                <a:gridCol w="3121200"/>
                <a:gridCol w="1233360"/>
                <a:gridCol w="3267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(was)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ξε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law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υνα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ε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intend / am about (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1B8E42A4-C335-4D98-9257-477FD13488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42920" y="1143000"/>
            <a:ext cx="87868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v. 1.19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γραψον οὐν ἁ εἰδες και ἁ εἰσιν και ἁ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μελλει γενεσθαι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μετα ταυτ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fore write what you see and what is and what is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about to happen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after these thing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al. 4.21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εγετε μοι, οἱ ὑπο νομον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θελοντες εἰναι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, τον νομον οὐκ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κουετε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ell me, you who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wish to b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under the law, don't you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isten to the law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1 Cor. 10.23: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ντα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ἐξεστιν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ἀλλ’ οὐ παντα οἰκοδομει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is permitted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but not everything builds up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638360" y="1928880"/>
            <a:ext cx="58672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'subject of an Infinitive' goes in the accus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4200" y="121428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messe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depart –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ε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ἀγγελο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ελθ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8280" y="3143160"/>
            <a:ext cx="90014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 8.3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υἱο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υ ἀνθρωπου πολλα παθ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n must suffer greatly (lit: it is necessar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n to suffer great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m. 16.19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ελω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ὑμ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σοφους εἰναι εἰς το ἀγαθ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wan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be wise towards the good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:Grammar </a:t>
            </a:r>
            <a:fld id="{979F139E-BB3D-40A1-87EB-B7121A5F0A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42:24Z</dcterms:created>
  <dc:creator>Sarah</dc:creator>
  <dc:description/>
  <dc:language>en-US</dc:language>
  <cp:lastModifiedBy>Sarah</cp:lastModifiedBy>
  <dcterms:modified xsi:type="dcterms:W3CDTF">2009-07-11T14:00:39Z</dcterms:modified>
  <cp:revision>54</cp:revision>
  <dc:subject/>
  <dc:title>Slide 1</dc:title>
</cp:coreProperties>
</file>